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1C4-D817-49C5-AA79-C90BFA41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9DB-97B5-48B4-ABB7-7F9ECA4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C5D84-2FE8-4D83-A1AA-18DA0138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E87E6-B5CF-4FCD-9413-D3B5DE1F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758EC-AFBA-4AA2-93FE-BC6EE874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8111D-87A7-4C50-BC10-67A713C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D38BB-F70E-42F3-AFE7-AEDCF91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5604A-EE93-43A8-87B8-DF234B4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2F726-1B0A-461D-8F88-F8F915DB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D952D-8EBD-4208-AACF-42E3A051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F6A8C-7C0F-4C3F-8D38-1273609E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63F21-2915-4F6B-A08B-8F55F284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B6A-CDBC-4A2D-89BF-DED311EE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3ACC1-81AC-45E1-BE3C-47D17CF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F42AF-8EC4-4FC8-9B2F-2FF539D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70190-B488-4775-BB47-93F8C164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17B28-3013-4F41-BFE9-96D4FD55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3D08D-3A0C-4F89-8392-E159DDD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9EAC5-6D97-4571-8229-DC32587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D4FCB-E0CB-42C0-96A8-FDB45E9B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93CC-B16E-4128-9A40-6514A4F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143F0-7259-4F01-99B8-A8F524A1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F4063-FE96-41DE-9DB5-8C2C5B83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7E1-AF7D-420B-A782-CB096573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6D279-BB47-4A37-B921-D1459277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B3F2-9DAD-4FD3-91FA-87948FF5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2A218-DAD5-4D55-8E97-A0D86D7F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52E95-E2BD-4311-90A2-91BE9EAA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2B528-61C8-45A1-978C-101A945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9A282-FB2C-4F0F-AD8E-B171A01A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84BB2-C6C7-4521-825C-9032073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957CA-7FB4-4BC4-90FC-A025EC9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52241-4444-49AC-99E3-3C90B46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50BD8-A0F8-4B4E-B2BB-D1AEDCF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B552-F09F-4BF3-B7BE-71B2733F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73F26-D118-4917-9257-528EBE9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8BBE6-E98D-46E4-A2E5-8E3C3777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D8DB2-E0DE-49F7-9445-CD686B2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C926C-5697-4054-9C5A-30DC6147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C363-1057-41DE-987E-9EDA1254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624E1-C15A-4CEF-9E9E-DE25C75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54FE1-AEAF-4F2D-8112-91BBC9B4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5C2F9-2705-4D83-8342-CDEE0FF3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4978B-7225-4205-A511-C713B415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761F0-815C-447D-8DF9-5F64C5E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200-852E-49D5-BCE9-4C6FA08E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6C9C7-F054-4817-984F-92083D5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93374-5CA1-4FFF-83DE-416175E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7F285-8E52-430E-AF79-E3E3B2B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0E47C-A26E-46BD-B702-0F7950DB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E9803-6D1C-484D-9411-BE1F97AF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46F4-AE0C-4941-A1DF-F0FAC0A3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A310-C3B1-432B-AA14-9B15935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C0BC-7E51-4AB3-9FE2-D625455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79FE-AB13-4681-AC90-415A7813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99B0-EF11-49DE-94EE-73E7D101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36D-E2D4-453E-8069-C4356679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8EB1-C16F-431C-B6F4-2A32369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A0B7-2071-4AC5-86C2-6BEFF23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9FE-41E3-4732-8E77-0567EFB9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5991-C3F4-476C-8D16-49CC5BBE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DE32-139D-4247-A2B2-C3924246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467A-1BA6-4B56-BBD3-B9513F7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6412-76E1-41D9-ABD9-585E846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0646-E250-4C4B-A2FD-0752004F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9A07-53B5-40F3-8396-DE6A3895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9901-CB93-4388-B969-1DAE07B0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195-C187-40F5-A8CE-98FF667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2708-F54B-41E6-949B-44960A08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F8D4-C437-48B2-93C2-3A74896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A990-2CC7-49F5-BF8A-1646B24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24AD-0DBD-41D1-A3AF-EB010295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9D83-16B4-4E4F-947D-2A6B3C57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BA2A-DA5A-49A8-ADED-984BC6BF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2A1F-C5B6-40E7-A2B0-C37F30CE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CEDD-EB50-4EEE-91BB-0094DCC8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27DD-7EF0-4045-9F46-71A2436A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A2DF-8FDD-443E-9EF0-24EB66CD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DEF-A156-464F-8C23-D342AA50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8CFA-20A0-4D1B-ADFB-AD5BF3A0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4AE4-20E8-4703-AA86-1B9F7719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0FA2-7DCD-4B61-A534-4B15E1F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8926-EF5B-4415-BA54-657F0665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A538-EB49-45EB-8C37-D468DD13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0ED1-064E-4961-A2D1-A57910F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432D-6AD3-402A-961C-F45D5D3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6B5B-F855-4F0B-9009-F99B8233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0D87-1E24-4601-B1C7-5D9086EA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CFAC-A21E-41C3-A1AB-D42EA4AA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DE2-7CD9-41DC-AEBE-AEB13C2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EAB99-2088-40C5-BF42-E93D1C9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3460-9A1B-4F05-80B4-80818AF3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181D8-764A-4ED4-87A8-AA9F9C3D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50497-299A-4017-B557-30A8A345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E6B0E-9B55-4A51-87EA-A89D801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DA1F-99FC-4FC7-AF62-BEAD637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E230-D9BA-408B-8CBD-F8D5CAA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3CFC-6697-4BC8-9673-73031BC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00A6-4078-4E52-A6C6-EC44E26C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AE7C-96FE-430F-B968-F6C3326F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DE2-9A2B-43DA-858E-207EEED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29AD-7906-4268-A752-ECCB1C70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2DE2-232E-45FD-9D6F-73B54F1B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8212-A3A3-4415-94A2-5DEA0303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D912-FEE3-4CF9-A6B8-B326E4BD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988FF-03B3-45C5-A238-7C0F006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9D97-5A7B-41E1-A027-584AB7CA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710A1-8244-4355-A7DE-BE3B31A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416D-EAAB-4F44-BF40-9076BF2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B70E-95FE-4687-9625-5B8F10A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9031-858D-4235-B7D6-F88D2628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7BC-1DB5-4145-8032-D9D51BB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61E2-C3EB-4C6E-822F-D97D1BED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7E70-43A1-4F0C-AB84-857437E1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4BBA-A743-4B06-A8B5-BF3D1A1E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98A1-C438-4E5B-9764-36149583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86E3-6A0B-4C80-B08C-D7374D1F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D9BD-DE17-4EA3-B056-C0BF6DE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A809-9C5D-466A-90BB-E3A8492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49479-0876-4160-A5D0-0EE1BE2E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F7E4D-19BE-4873-9272-CC8BC77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59DD3-813F-408E-B52F-D1C79F8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324-DBA0-42FA-A0E7-06F03495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60A6-BAEF-4B92-A853-4D2DDF8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D3BC-7527-4583-9F1C-321DC0C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DF7F-95F7-4024-84B7-85EA256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01D07-4C5F-43A4-9E5E-EE89CE9E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B1DB-9429-4A6D-B87B-12749EF8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B6E25-61B0-4152-9BDC-2448018D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D2737-CB53-4936-AD82-E3C8CC95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F3BAD-D6BE-4A75-8FE2-036D6B5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DDED-928B-4EDB-ADD5-5F39CF5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43616-4014-436A-A606-732C3A3E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394-988E-465A-97BA-F5A4DCE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1770E-8082-48E5-A958-D5EEF37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989F3-32EC-419F-9787-7516D3D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A4BC0-6456-4FE5-90FA-0B4CFCA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6654-B65A-4564-802D-BCCAB44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EA703-3AEC-4755-820C-1EB9C3DC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5D23-CCDE-4D09-9231-339E4BE5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D49F-F278-467A-8493-7BC7E28A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A051E-B5BD-4B74-BEB8-6A350256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9A80-3DDC-4B40-952C-95DBAB96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1C667-3EE2-42C4-A98F-ADD9108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5E57-1A09-4010-9D6B-CF6E3E7F80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A02-1A1E-48B2-A821-EEBA78A67A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6ED3-C6AC-4AD3-9E76-BD8257C107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527-C75E-4189-AE66-30F6D92E10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F13-CC24-46B2-8C4A-371A73B074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1E55-6B9D-4067-8B5F-F35AA8FD30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CB55-06E8-400E-A9DA-679AE03915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CD8-DB87-4164-A05D-723F6A7683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853F-A84F-4879-BFA2-416F041A19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B070-1551-4D2B-B67C-C5C7762C9D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D259-352F-4D1A-AC4D-E1D3A4D67F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CCD4-03F6-4FED-AA22-731C9A18F9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 Stále ešte Bož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trvá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ešte Bož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trvá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Otca náš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ni dosiaľ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veľkej priaz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va svetu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voril nám sv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ruč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len žiari svet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dy Božej v tmá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ohltí svet n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epasť bezod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Boha sa strá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ysel živ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naša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ist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ieť s Kristom zisk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bez neho str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voril nám prístup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rónu v nebesi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 raz navždy stra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ádu nad n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on povedie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y brán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tkni sa nás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vor duše z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ojím od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chybností m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ovom pravdy povzb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e ukáž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tvoj ľud s te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veky žiť sme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09:58:56Z</dcterms:modified>
  <cp:revision>32</cp:revision>
  <dc:subject/>
  <dc:title>Je veľký náš Pán, on slávy je Kráľ Nech do všetkých strán  spev vrúcnych znie chvál.</dc:title>
</cp:coreProperties>
</file>